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EF487-8CC8-4DBC-995A-CA91DB53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5703-3E07-433A-AA0F-8393A04B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6E59-56EE-4C0D-B217-3CB3C937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EB60E-4E2C-4582-A9C4-C3CB88C5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7CFD-4554-45F6-B9C1-C089E68D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9EB9-EDF0-49F7-B27C-7DC33EE1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EE63-6A04-481F-986C-840CD044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AF11-DBE2-4A64-8C42-357A058F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2051-F5A6-475B-BC72-1871FFA5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3FE0-97C5-4085-86EF-BBF10A05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C403-38ED-4233-B504-18FB6199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43A6-EC0B-465A-A725-0403E2C3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F377-AC35-4666-992C-1D4B3863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FE32-AB46-4045-AE85-D67415DA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AD94-7597-4134-9656-F4E9F476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D2DE-C571-4D59-AA8B-10325D37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7D82-33B2-4219-9CB1-576AD22C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BAFB-941C-4EA9-B858-9EBEEED2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76D1-474E-4E16-AFD0-C232A6DE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5F4ED-6164-4CAB-A70D-CF9CF442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523A-B579-4C80-A922-A007EBF0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0EC72-8979-474D-97BD-3F1A84BE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AA369-8068-4083-8C0C-99A34116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31825-F6F8-4C7E-BA89-F2695553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19A0-8FDF-4721-A94D-C7FA508D0FB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83F7-E042-4768-98E7-5427B86477F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86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5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О, мое сърце, с радост ти ход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Господний път на светост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тогаз все, що Бог обещал е, и ти ще да вкусваш във вечност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526760"/>
            <a:ext cx="957744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блести кат' звезд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то Нему верен е бил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блести кат' звезд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 тук Бога е люби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Не бой се, сърце, Господ ще дад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верните Си сила сам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в небесно блаженство ще т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еде, ни скръб, ни болка има т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526760"/>
            <a:ext cx="957744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блести кат' звезд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то Нему верен е бил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блести кат' звезд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 тук Бога е люби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67960"/>
            <a:ext cx="957744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бещание е наш Господ дал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 Господ Бог, а не човек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на праведните Свои е обеща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блестят кат' звезди навек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526760"/>
            <a:ext cx="957744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блести кат' звезд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то Нему верен е бил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блести кат' звезд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 тук Бога е люби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8-07T09:08:02Z</dcterms:modified>
  <cp:revision>97</cp:revision>
  <dc:subject/>
  <dc:title>Slide 1</dc:title>
</cp:coreProperties>
</file>